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1BB-4485-4FA6-BDBA-3B6B934F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CCD-047D-452B-BC69-42617566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2E1-9328-432F-8261-5B745EF8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9FB-D545-4CB7-859F-3D681BEB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37B-349E-4EF5-9632-448B4B3C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95C-8584-4148-AE09-1ECE4666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DEF-9976-417E-A2A1-321623FB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7D4-76AA-4058-B6FA-7EDDFDDA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F52-725C-47C3-8666-B08ADE16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C08-DE50-407F-9B64-569DAFAC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0D8-FBC1-4CDD-A924-509482C5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74E-BB5E-4C98-B8A2-E0C472F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6ED2-1E69-4344-B339-1829A4138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l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2:28:18Z</dcterms:created>
  <dc:creator> </dc:creator>
  <dc:description/>
  <dc:language>en-US</dc:language>
  <cp:lastModifiedBy> </cp:lastModifiedBy>
  <dcterms:modified xsi:type="dcterms:W3CDTF">2009-06-08T22:28:31Z</dcterms:modified>
  <cp:revision>1</cp:revision>
  <dc:subject/>
  <dc:title>Digitl story</dc:title>
</cp:coreProperties>
</file>